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950-B7B2-40F5-A398-D5F584B3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02E-7AC1-46CE-99EE-5C43150D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CDF-9075-4BE7-8578-CF36919F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13F-230C-417B-923E-197D4CB0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1C4-CD0D-41C3-9C5C-FD09CB09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2A5-FBFD-41E1-9F21-011E63AF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381-0AFB-4C98-999D-4237BA06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482-073A-4957-B2DD-E33FB150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DF6-74D4-47F3-9B76-C245295C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AC4-4E6F-41A2-ADF1-D6BBF791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454-D8A6-4245-AC79-BD3544C6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DDE-CDC9-42DC-A933-F5CC5CB5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F17F-8A08-4A5A-BA41-F5FA258C3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iwtc.com/photo/products/15/00/72/7230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14240" y="129492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ran Apertur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228600"/>
            <a:ext cx="3504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ine Increíb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981080"/>
            <a:ext cx="29718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Que: New Years 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Cuando: </a:t>
            </a: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28 de diciembre a las 6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Donde: </a:t>
            </a:r>
            <a:r>
              <a:rPr b="0" lang="en" sz="1600" spc="-1" strike="noStrike">
                <a:solidFill>
                  <a:srgbClr val="800000"/>
                </a:solidFill>
                <a:latin typeface="Arial"/>
              </a:rPr>
              <a:t>22 Flutie Pass, Framingham, 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Las entradas: Dos por un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$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Cinema Seat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152280"/>
            <a:ext cx="1943280" cy="1487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2400120" cy="157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1981080"/>
            <a:ext cx="3657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película es New Years Eve. las entradas son $12. Los actores son Jessica Sarah Parker, Jesscia Biel y Ashton Kutcher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pantalla es grande, y clara. El tiene subtítulos y está en la versión original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butacas son cómodos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las palomitas de maíz, la soda, y los dulces. Hay una línea muy larga porque es la apertura grande. Hay un metro que usted puede tom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ye S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8:44:58Z</dcterms:created>
  <dc:creator>sinosfay</dc:creator>
  <dc:description/>
  <dc:language>en-US</dc:language>
  <cp:lastModifiedBy>sinosfay</cp:lastModifiedBy>
  <dcterms:modified xsi:type="dcterms:W3CDTF">2011-12-22T19:08:25Z</dcterms:modified>
  <cp:revision>5</cp:revision>
  <dc:subject/>
  <dc:title>Slide 1</dc:title>
</cp:coreProperties>
</file>